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75213" cy="42803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EE0-2CF7-4377-8964-98111C21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261129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81160" y="25579440"/>
            <a:ext cx="261129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3DB-4593-4871-944E-762E793B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61640" y="1139472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81160" y="2557944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61640" y="2557944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8AE-9A66-4490-9E4A-B24120B1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84081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910160" y="11394720"/>
            <a:ext cx="84081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739160" y="11394720"/>
            <a:ext cx="84081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81160" y="25579440"/>
            <a:ext cx="84081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910160" y="25579440"/>
            <a:ext cx="84081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739160" y="25579440"/>
            <a:ext cx="84081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BEC-2184-4EE6-807C-9577B258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81160" y="11394720"/>
            <a:ext cx="26112960" cy="271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3314"/>
              </a:spcBef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BFF-C6CD-4D17-B7F5-E1BA46E7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26112960" cy="27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D59-F78D-4F84-95D6-01C0DE35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12742920" cy="27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61640" y="11394720"/>
            <a:ext cx="12742920" cy="27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CBD-F0A2-4D20-A086-D2D14B8D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34E-9E00-4675-86BC-E8DA6E14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81160" y="2279160"/>
            <a:ext cx="26112960" cy="383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3314"/>
              </a:spcBef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2DD-69E1-4B77-BC32-6D17FDE4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61640" y="11394720"/>
            <a:ext cx="12742920" cy="27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81160" y="2557944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F3D-5B15-492E-A676-380FF66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12742920" cy="27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61640" y="1139472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61640" y="2557944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075-9370-4CF9-9B8B-FBFC83D9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61640" y="1139472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81160" y="25579440"/>
            <a:ext cx="261129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891-1629-4707-9821-8FA19737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81160" y="11394720"/>
            <a:ext cx="26112960" cy="27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5640" indent="-755640" algn="r" rtl="1">
              <a:lnSpc>
                <a:spcPct val="90000"/>
              </a:lnSpc>
              <a:spcBef>
                <a:spcPts val="3314"/>
              </a:spcBef>
              <a:buClr>
                <a:srgbClr val="000000"/>
              </a:buClr>
              <a:buFont typeface="Arial"/>
              <a:buChar char="•"/>
              <a:tabLst>
                <a:tab algn="l" pos="3027240"/>
                <a:tab algn="l" pos="6054840"/>
                <a:tab algn="l" pos="908208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  <a:p>
            <a:pPr lvl="1" marL="2270160" indent="-755640" algn="r" rtl="1">
              <a:lnSpc>
                <a:spcPct val="90000"/>
              </a:lnSpc>
              <a:spcBef>
                <a:spcPts val="3314"/>
              </a:spcBef>
              <a:buClr>
                <a:srgbClr val="000000"/>
              </a:buClr>
              <a:buFont typeface="Arial"/>
              <a:buChar char="•"/>
              <a:tabLst>
                <a:tab algn="l" pos="3027240"/>
                <a:tab algn="l" pos="6054840"/>
                <a:tab algn="l" pos="908208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  <a:p>
            <a:pPr lvl="2" marL="3782880" indent="-755640" algn="r" rtl="1">
              <a:lnSpc>
                <a:spcPct val="90000"/>
              </a:lnSpc>
              <a:spcBef>
                <a:spcPts val="3314"/>
              </a:spcBef>
              <a:buClr>
                <a:srgbClr val="000000"/>
              </a:buClr>
              <a:buFont typeface="Arial"/>
              <a:buChar char="•"/>
              <a:tabLst>
                <a:tab algn="l" pos="3027240"/>
                <a:tab algn="l" pos="6054840"/>
                <a:tab algn="l" pos="908208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  <a:p>
            <a:pPr lvl="3" marL="5297400" indent="-755640" algn="r" rtl="1">
              <a:lnSpc>
                <a:spcPct val="90000"/>
              </a:lnSpc>
              <a:spcBef>
                <a:spcPts val="3314"/>
              </a:spcBef>
              <a:buClr>
                <a:srgbClr val="000000"/>
              </a:buClr>
              <a:buFont typeface="Arial"/>
              <a:buChar char="•"/>
              <a:tabLst>
                <a:tab algn="l" pos="3027240"/>
                <a:tab algn="l" pos="6054840"/>
                <a:tab algn="l" pos="908208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  <a:p>
            <a:pPr lvl="4" marL="6810480" indent="-755640" algn="r" rtl="1">
              <a:lnSpc>
                <a:spcPct val="90000"/>
              </a:lnSpc>
              <a:spcBef>
                <a:spcPts val="3314"/>
              </a:spcBef>
              <a:buClr>
                <a:srgbClr val="000000"/>
              </a:buClr>
              <a:buFont typeface="Arial"/>
              <a:buChar char="•"/>
              <a:tabLst>
                <a:tab algn="l" pos="3027240"/>
                <a:tab algn="l" pos="6054840"/>
                <a:tab algn="l" pos="908208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  <a:p>
            <a:pPr lvl="5" marL="6810480" indent="-755640" algn="r" rtl="1">
              <a:lnSpc>
                <a:spcPct val="90000"/>
              </a:lnSpc>
              <a:spcBef>
                <a:spcPts val="3314"/>
              </a:spcBef>
              <a:buClr>
                <a:srgbClr val="000000"/>
              </a:buClr>
              <a:buFont typeface="Arial"/>
              <a:buChar char="•"/>
              <a:tabLst>
                <a:tab algn="l" pos="3027240"/>
                <a:tab algn="l" pos="6054840"/>
                <a:tab algn="l" pos="908208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  <a:p>
            <a:pPr lvl="6" marL="6810480" indent="-755640" algn="r" rtl="1">
              <a:lnSpc>
                <a:spcPct val="90000"/>
              </a:lnSpc>
              <a:spcBef>
                <a:spcPts val="3314"/>
              </a:spcBef>
              <a:buClr>
                <a:srgbClr val="000000"/>
              </a:buClr>
              <a:buFont typeface="Arial"/>
              <a:buChar char="•"/>
              <a:tabLst>
                <a:tab algn="l" pos="3027240"/>
                <a:tab algn="l" pos="6054840"/>
                <a:tab algn="l" pos="908208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81160" y="39673080"/>
            <a:ext cx="681192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2981160"/>
                <a:tab algn="l" pos="5962680"/>
                <a:tab algn="l" pos="8943840"/>
              </a:tabLst>
              <a:defRPr b="0" lang="fa-IR" sz="3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2981160"/>
                <a:tab algn="l" pos="5962680"/>
                <a:tab algn="l" pos="8943840"/>
              </a:tabLst>
            </a:pPr>
            <a:r>
              <a:rPr b="0" lang="fa-IR" sz="3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028160" y="39673080"/>
            <a:ext cx="1021896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981160"/>
                <a:tab algn="l" pos="5962680"/>
                <a:tab algn="l" pos="894384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82200" y="39673080"/>
            <a:ext cx="681192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2981160"/>
                <a:tab algn="l" pos="5962680"/>
                <a:tab algn="l" pos="8943840"/>
              </a:tabLst>
              <a:defRPr b="0" lang="fa-IR" sz="3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2981160"/>
                <a:tab algn="l" pos="5962680"/>
                <a:tab algn="l" pos="8943840"/>
              </a:tabLst>
            </a:pPr>
            <a:fld id="{60037E02-3E54-436D-8068-1DC78D2A8186}" type="slidenum">
              <a:rPr b="0" lang="fa-IR" sz="3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30275280" cy="42803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1311120" y="2158920"/>
            <a:ext cx="2274588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mbria"/>
              </a:rPr>
              <a:t>Put Your Poster Title Here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Author(s) Name(s) Goes Her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. Authors' Affiliation(s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1:27:21Z</dcterms:created>
  <dc:creator>Maziar Moussavi</dc:creator>
  <dc:description/>
  <dc:language>en-US</dc:language>
  <cp:lastModifiedBy>Maziar Moussavi</cp:lastModifiedBy>
  <dcterms:modified xsi:type="dcterms:W3CDTF">2017-04-19T07:30:45Z</dcterms:modified>
  <cp:revision>7</cp:revision>
  <dc:subject/>
  <dc:title>PowerPoint Presentation</dc:title>
</cp:coreProperties>
</file>