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5213" cy="42803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30B-8EF9-41ED-A340-09079541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81160" y="2557944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0CB-7C06-4743-B552-468790D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6164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B46-80F9-4E34-AE91-A83921AC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10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739160" y="1139472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81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10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739160" y="25579440"/>
            <a:ext cx="84081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9DD-0A07-4764-90A1-A8E542C7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3314"/>
              </a:spcBef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052-ACD7-45DE-A15C-30C8D41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72C-4DD3-4183-8B5F-CCE374A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0C6-93D2-46A0-8257-566CC04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F5D-B068-43FA-9E39-F095540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81160" y="2279160"/>
            <a:ext cx="26112960" cy="383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3314"/>
              </a:spcBef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453-0753-42A0-A791-1032719D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44A-D780-42C0-A48B-E03C482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61640" y="2557944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DF4-7346-4D85-A527-640C631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8116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61640" y="11394720"/>
            <a:ext cx="1274292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81160" y="25579440"/>
            <a:ext cx="26112960" cy="129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3314"/>
              </a:spcBef>
              <a:buNone/>
              <a:tabLst>
                <a:tab algn="l" pos="3027240"/>
                <a:tab algn="l" pos="6054840"/>
                <a:tab algn="l" pos="9082080"/>
              </a:tabLst>
            </a:pP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9FB-FD5A-4D01-A8A6-3B59F1E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81160" y="2279160"/>
            <a:ext cx="2611296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3027240"/>
                <a:tab algn="l" pos="6054840"/>
                <a:tab algn="l" pos="90820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81160" y="11394720"/>
            <a:ext cx="26112960" cy="27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564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1" marL="227016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2" marL="37828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3" marL="529740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4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5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  <a:p>
            <a:pPr lvl="6" marL="6810480" indent="-755640" algn="r" rtl="1">
              <a:lnSpc>
                <a:spcPct val="90000"/>
              </a:lnSpc>
              <a:spcBef>
                <a:spcPts val="3314"/>
              </a:spcBef>
              <a:buClr>
                <a:srgbClr val="000000"/>
              </a:buClr>
              <a:buFont typeface="Arial"/>
              <a:buChar char="•"/>
              <a:tabLst>
                <a:tab algn="l" pos="3027240"/>
                <a:tab algn="l" pos="6054840"/>
                <a:tab algn="l" pos="908208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81160" y="39673080"/>
            <a:ext cx="68119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  <a:defRPr b="0" lang="fa-IR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r>
              <a:rPr b="0" lang="fa-IR" sz="3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028160" y="39673080"/>
            <a:ext cx="1021896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82200" y="39673080"/>
            <a:ext cx="681192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  <a:defRPr b="0" lang="fa-IR" sz="3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2981160"/>
                <a:tab algn="l" pos="5962680"/>
                <a:tab algn="l" pos="8943840"/>
              </a:tabLst>
            </a:pPr>
            <a:fld id="{2E0601CD-9353-47B8-98BF-7B9610AAAE07}" type="slidenum">
              <a:rPr b="0" lang="fa-IR" sz="3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30275280" cy="42803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311120" y="2158920"/>
            <a:ext cx="2274588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mbria"/>
              </a:rPr>
              <a:t>Put Your Poster Title Her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Author(s) Name(s) Goes Her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. Authors' Affiliation(s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27:21Z</dcterms:created>
  <dc:creator>Maziar Moussavi</dc:creator>
  <dc:description/>
  <dc:language>en-US</dc:language>
  <cp:lastModifiedBy>Maziar Moussavi</cp:lastModifiedBy>
  <dcterms:modified xsi:type="dcterms:W3CDTF">2018-04-30T09:53:14Z</dcterms:modified>
  <cp:revision>8</cp:revision>
  <dc:subject/>
  <dc:title>PowerPoint Presentation</dc:title>
</cp:coreProperties>
</file>